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637-266F-4699-90AB-686CEECC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77D-3028-4D05-8FDD-358FEB76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138FA-4F7A-47E6-9060-12B07A98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2D085E-F8E7-407A-A74D-0F299F85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AA22C-2BD0-464A-9922-1C85406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BF577-1DBB-41A6-9DD3-4E5784D8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EAD359-6C17-4B47-824E-F3343FD0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42B15-F716-488F-B766-DFB7F1C6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AB84E-32BA-49E4-BBBB-5B17720A6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0365C-C0B8-47A4-9268-07EF88E6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438FD-E442-4405-B83C-0E370080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A03C3-5F18-4E3E-ABEB-E9F8C0E1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049-14F5-4467-A9F1-6B38A4312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701C5-90DB-4076-B9D7-7D25CFE1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DEEBB-DE04-4E15-ADB2-A1134C57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26DE5-03AF-4CA9-8BD4-24EE59D9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7941B-DFD0-4B22-A18B-5C67A59A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7AF9F-A452-4E7B-BA63-EA520F9B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6BF7E-972B-4318-B3E5-4AADFB61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263E0-578C-4AFD-A6AF-2F4F869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8742C-9F2F-4075-A6DA-240C4794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713DD8-5444-4CA7-9A1E-A74E039A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83001-5914-4B2B-9F75-3DC3633B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F8C-B129-4DC5-AE4D-5CA81918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79203-FD36-4CCE-A65E-7F426502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45364-3FF6-4391-B373-5482EA71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79B01-942A-45FF-9020-5A0C98D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3E30-1801-4715-9D7F-40A884C0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38185-CC9A-4158-95DA-6CEECEAF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96F59-1D9A-44C4-A877-D274CC32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9B9AE-FAE7-4E54-BB24-FE5182F7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175D7-7C6E-4FBD-AC05-2868D163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B5639-EDB8-4CBD-9AD7-3EFA76E5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DF658-697B-4D98-9161-485B4BC5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5E3C-2536-4CD5-8B52-6034E4C7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F0D2E-4AD0-41FD-BCFC-96517821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0BF6F-B203-49EE-9B8D-E7F35FE0C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C141A-D057-4C80-B88B-8DA0CC0D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EEF5D-D6F9-48A8-8846-C31810E8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7E2B4-7FDD-4CB2-A786-2C05DF90F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1BC97-7CED-4989-AA6F-B72FEE20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8790F-1D3D-4F16-B712-B443545F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248AB-5281-46E0-A541-0FA589E6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DDD02-41B7-4B4B-A334-633EA08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2ED1A8-D379-451C-A19F-875E5B26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0B34-160C-4E22-A3B7-77E11AA1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D78A9-AEE6-4707-9C0E-BDE27D49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45F50-C04B-4BFA-B67A-9A87EFC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7A56C-EC55-4C42-A358-1279C1DE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BC77C-FCC4-4A92-9B05-0094FFABF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6AE1C-C337-4FF1-92DA-2FDEAE0D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601C6-B0BF-4DD3-B4F9-3FE9E34B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44EA99-1CC4-496F-BD99-C855EEDF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1D544A-0070-4548-A42A-7E451835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7C05B7-CFFF-4283-93EB-8A92EC88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7D7813-A457-483C-83F3-258389D7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5632-CC5D-4A51-A256-39C4AE2D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940D5-35D5-400D-9277-79BF2E7D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C85B46-45A9-4D25-8FC8-764B5C8D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E9352-7EAA-4007-B915-397E2A41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64B1F-D602-4C4C-8F3E-9043A998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75B6FD-6418-4645-85D6-3662B58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855D7-A057-4D9F-9487-EFB119E9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8EA86-40F6-4D78-911B-68E84D2C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7C3D29-6805-412C-BEB3-00E926C9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1D871-12FC-4D39-99C9-17EFCFBA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819F54-D45C-4A49-A65E-EEBDF1AE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A29D-7EB4-435D-B877-D6EA9C92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0EB39-AE42-4296-B113-6CB642A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1E14C-9F51-4454-BAEB-D79ECB09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34961-42D7-462C-945B-1CD93FA8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BDA0B3-7F41-4958-B4F7-92AA8DD5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AB010-E91E-4E46-B651-146E9311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E141F-A910-4BAD-8F18-77341312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9FD7B-0C43-4EE6-BA88-C8E007AC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7E1E2-A697-4055-8CE7-B4C5F405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5DD0E-7A8B-49F8-A34A-03B1D1A3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B0FC7-94A2-445C-9526-40458F0E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8002-3CC3-4D5F-B1A9-3224762E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1AF37-9A63-487F-94A8-53318EE4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AEE0A-3EB4-4252-9187-FA6B3326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E5CAF3-FAA7-4496-A852-7B22FE37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531510-2E46-4A71-8CD9-7D24D146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F57601-395A-4B7F-BCFE-08E538CA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27202-7151-4800-80DD-2AB27DD3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413D27-59CA-43DB-A1F2-9625621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ECD32-D2E1-4ED8-A745-AF2979B4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C03075-9771-4442-A79A-BDD1164B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12AE4F-9CA8-4022-8B4A-63B30EFA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38A9-5917-444B-B779-C3C2479D6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8B6A14-BBAD-426F-A136-43DA8E6C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F6726-4E40-4AB8-A0EB-1445803D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8BFB5-337D-47FD-88DC-7F92E18B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C15F7E-9062-4ACE-BC68-D4935681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E9112-D238-42CF-BE55-06C1871A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20934-0872-4B3A-BEF2-32729EDE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F4BC0-B883-4D46-82A9-096133BD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8D1D2-32DD-448D-A5F0-39CC4F4D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1838F9-7F70-42B4-8310-C2D36149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538C7-78B3-430E-B428-E8F9D593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042A-9DB5-4694-8F13-CDDC0C36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8B336-2BCC-4A63-B53F-AD7B0FC0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0CEC1B-F663-4EFB-A601-B1632CA1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923F1-AA9A-4FB8-9A15-E05D35B6C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F3AE49-2636-4215-BCE4-252F1D17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5ED3CC-6A1E-4432-AD1E-A6862825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15C08E-ECE9-4014-96A8-F99F54DF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08611-5589-4D67-9B3A-EF8A2DA3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0D1050-C0D6-45FC-9BD9-4401B7F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09DCD-AD43-4ADE-810F-E7F67DF4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6B4A00-0F02-49DC-B812-3EB5CC91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FFB3-E081-47BC-AC7F-CBEB9DAA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972C-6CEA-4162-8D4A-8FC5F8D2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184D2D-2E8E-4ACD-AD01-D29EAD67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F689E8-9E37-483C-817B-0931E17C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CD796-68DE-484C-8C68-E1289276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BBF51-62E7-40F8-9E1F-092BE036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13CF95-7182-443F-B899-835D441F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2EE8F1-9117-48A5-9522-5B42549C2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206A7E-72BB-45CE-940B-065B6939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EEDF34-D84A-4C36-A442-1F6E0E08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3217EB-0403-4003-9CDA-7BBC2B26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807606-014A-4E6C-B44B-69C9090B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2250-FE0F-4AEC-8FC6-1DDDD7E0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5EC9C-C0CA-4E89-ABFE-5E19AFC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A0030-741E-4991-9380-C07E76D8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703B07-05A5-48E6-A4DC-39F59614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DA3CEE-96C2-4665-86C7-C550F0D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4AFEA-8562-4EBD-9792-390324E0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68123-3AC0-461D-8165-1D687AF4F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FACDA3-1595-44CE-852A-9DA2DD2D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0C77D4-9719-40E8-9336-2EABE81F8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5360E1-89C7-483C-9355-736DB5EF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CC402A-6B4D-45AB-A01C-DC716309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BE74-E612-49D1-96BF-6CAEC97C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609D8D-81B6-4AD7-8C5A-993BCBFC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B4E8E-4483-468A-BC93-FE50B36F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4853C-B95E-44D0-879B-759D6F03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D4CA9-6D1E-4CD9-8E50-420B133B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CC1B7-63AB-4FB7-BB27-2E9D5F62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48F23C-142F-4DC3-B02D-86499FBA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69C055-5B70-457A-809A-31DF42F1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A7B57-3B9E-4A64-B738-3B7984F2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70EFA-7A1A-49FB-BCF3-9363538B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D8B37-9F6F-41A8-847F-50DE9B01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03FE-A15D-4B28-BD92-704ACFFE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3BB46F-B834-4E70-895E-447AC841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0E4E6-3E82-4A9D-8FA0-8E5970DC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4718E7-955B-4D91-85F6-D97027BE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CE9E08-7879-46E6-AEA3-F61C123D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0C2275-B4CA-4DC1-B2ED-4DD49AFD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711FDC-0A7D-405D-827D-FEC32D7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A22E13-F7D7-457B-A44B-DC1D19A6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B235F-BD95-4491-AC93-6FA22AC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75DAD2-D51B-4894-A956-7A87843F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70B692-9C30-4FCD-AF1D-C15C9722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9BAD-7512-4E81-9FC5-9308EC33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F6A4E3-B904-4AEC-9EBC-5DEFD816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9D91D-FAB3-4EDE-B54D-3EF64203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239690-ED93-4EC2-8FF6-A92F7195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29602A-145B-46BE-9083-44A44A20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D7D12B-8BD0-48B2-90E2-2081DC2D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C070E4-E683-40B7-B109-AA974634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01FE0-2B2E-4AC0-8351-E59B5F1C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8F035E-0CC9-45BB-8D29-E41B0285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9E1BF3-2639-4CF8-8E72-55EA41AA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FB25D-E3BF-45F9-B326-73712E63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AB428-B735-498E-94AA-D805AA52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73C09-CA33-47ED-89DD-5B26F647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AD34AD-611C-4F01-BA52-944C3EDC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D2DDFA-7B5A-4FDE-A04A-CD43AE94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141AF-C3A7-4E46-926C-DE6DEABA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7680-EB90-4327-BDA9-744C0376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7B8E-B8BF-4402-8DBD-71D68463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2AC0-80C7-4BAD-8C79-DCB04FE7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F1C6-3CB1-4DA5-A514-1026F77C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EA41-EEF7-4740-A913-81D845DB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95BF-8828-4ECE-ADB4-12AF389E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1657-EC56-43C5-A77A-B92A64B4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029B-5E31-4FAB-899F-0B88D6BC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D4875-BFDD-43AC-8DEC-A7229D39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733D-4700-471C-A433-C6998FD7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1AD6-4F45-4467-AD75-E89B68C9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33AE8-C9C2-4DE1-8760-DDB096BB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7184D-8DD5-4655-87CD-CAA06134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2C54-9946-465E-8D8B-5F59806A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AE6-6DF3-469B-9F1F-69D7EDF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7B788-633D-4EC1-8086-F26412CD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3317C-3EEF-4B22-9CD9-E8BDBA37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5C206-F089-4855-8704-E041057B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0528-9F19-4985-8E52-33B4A44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D3FB5-DE2B-4387-98AE-1EBFFECE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197C-497E-4A78-A38B-408D4FB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505C8-BF63-46F0-AA5A-989BBAE0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710B-851D-4EE2-9C63-81E0A56F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D282-6BBC-41D9-8196-AE058B38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EED80-BF68-410B-81F2-893E7AE1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483C-D946-42A8-B884-95DFB829D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95FEA-ED96-4535-A673-DD081667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F866-3913-4860-867B-AB32EEAE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C153-15F8-435E-AD28-2AF8135D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8002E-0527-4EAE-B6CF-A452F1B5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C928-5790-42AE-A82F-C8F44C49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9735-6F8A-43A2-A71F-1A230AB1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0792C-E36B-48A9-B8F2-1FDDFC4F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71333-8DC5-455E-931D-C91BD67E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49F5D-E678-48BC-84FB-C5A6A16C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808A4-BDAE-4F17-884F-878A0D47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B94E-7811-4C3A-A5EC-47007A01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70D6A-733E-4C10-A277-9111225F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11BD-2CB3-478A-8F2E-482B1098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BCCF1-C7C4-4313-95B0-58A5E4E9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8F357-D8D1-487D-BCE1-8AC0AFD3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0A4B6-F5F6-492A-AD75-3956DE9E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9E853-033F-447F-930F-1DDEF5E4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2DB26-A928-4CAC-BF7E-AECC7C96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50AE5-4042-4624-90AB-8D3C2E4E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D904-A0B6-4922-80EE-AC69507E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66D1-427B-4E45-93BA-6A432CE9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2457-43AA-4358-A45B-D1232EF8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FE1CD-BE64-4241-80ED-7E89F546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8BD91-7960-4E13-8435-37C2678B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0B7D3-BDEE-4C30-ADA0-D379E2B6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FD711-E024-4D92-A5B8-A8C3A2F5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885ED-3D36-4D6B-923D-359CAEE1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B83C1-E5B9-4BF9-8AD1-38807D10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8E76D-F0BD-414D-946F-63BCD1A8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3AB6F-9F22-44AF-8061-62114E53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7B53-9994-4511-9326-5E03F464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5D107-CE7E-42D7-8596-D12C2A3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5A9-0EBE-4BD0-86DA-D704F9F9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E5BDE-F364-45A0-8729-A9D5A5F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208E8-55FF-47A6-8061-5C32EFB3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96EE6-CCA8-489C-9DC3-3F6125AB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FAC6D-91C7-43BC-81F0-7241EE9E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EEB94-EA80-478F-A32A-EB65D682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74D79-1C29-4C67-A415-1351724A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AC574-B5FB-454D-BFE7-860C5F7F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EE60D-208F-49B3-A0F6-BD4D22B5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B0620-0C26-4FAE-A38F-8BEA027F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32CC6-9579-4B51-8C52-23C5D491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E7B-573A-48EC-918F-453D33B0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CEE99-B32E-46F2-8E53-2D5E66C8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B0AD4-761F-4B79-BCFE-1E3A02C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1FBE1-7BB3-4BA0-A1F7-1EA14C3E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1A668-A23B-4CB8-9594-B89A727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1B6EB-D11E-4D1D-95F3-1CDC266A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A50A3-C38C-44DB-BD8C-022C0667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73EBD-C22C-45BE-AF41-40A10ABE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68D9F-BB62-427A-8F5A-E57E5FD0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17DD5-6AFC-4614-8471-1F0D00D1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EAE25-A935-442B-A122-147DA3D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6934-7CE8-4D5C-B3E9-7B31B576F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8868-C322-43BF-ADFC-8D9617E789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F806-DD42-47D9-808E-2579BD5782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D429-30EB-4A6D-8476-E42F19EAC7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EAE-F088-4DBE-8067-9DF3E787FC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C539-C173-4999-9C07-32E0EC49F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2766-E8F3-4ECE-A86D-8805E6CB0C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DB2-94AD-4FE3-8989-8D2B1DEA65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CB80-088F-42D6-89DC-B350B6DB5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1268-16FA-442A-B5C1-B86CD5BF35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408A-EEDF-45C6-B113-2A7802896D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61A1-06DC-46A9-A96F-4A43339CD0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37B-2988-46D2-AFC5-2952FC950C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3908-E056-4FBD-AE66-4FEE1A52AD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B2A0-614A-4512-8908-ACB5F69A5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ABC4-8D5C-48D0-8EA0-DDA0407E8B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7284-A8ED-4E44-9161-427D3671E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43D7-BD9A-4BE2-A7C2-FB2081CFA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F24A-CBA7-41D5-B9F0-3A4D58F568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C063-8AE5-4B96-AB53-594F196CB5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4080-20AA-4418-846C-BF34556EE3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65F9-E672-498F-A9CF-E77D416713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8276-E080-4353-89C3-63BFA648FD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3C0-33FE-4D5D-826F-346FCEEC71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8446-894E-46AE-A54E-7CFAA81F504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E81C-97B7-4D3C-9200-E92C7AA08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8817-6BA1-49DA-8134-B632224BFA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8ED2-98F0-40B7-AC4C-EBB222339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D98F-B24C-41B4-82E7-A778F6A4D3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CA7F-C6FF-4189-BF6F-CAA38B29AD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A2A3-5EF1-481D-915A-37F8F75E1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1CE7-00A3-4218-A39F-A665A587A1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96F5-8E6D-43B4-A98D-4D9C5C3520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CFE9-B90B-498D-9E1C-1603392E3F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28B1-1AF6-408C-A75A-8A5BFB80CF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9B09-5502-4CCF-BB37-B4B5B0D638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970-0B18-4A72-808E-6C7E2E4DE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E718-03AA-4228-A5CF-4477F35E15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4400-56CA-421F-873C-30E3FEDFAF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94A3-1656-4918-9508-909A3B3024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857160" y="3143160"/>
            <a:ext cx="762012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534160" cy="5857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5429160" y="2541600"/>
            <a:ext cx="1428840" cy="3697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1928880" y="35812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7143840" y="46245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6215040" y="56437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2786040" y="6224760"/>
            <a:ext cx="13572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285840" y="785880"/>
            <a:ext cx="8486640" cy="57722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2"/>
          <a:stretch/>
        </p:blipFill>
        <p:spPr>
          <a:xfrm>
            <a:off x="714240" y="1325520"/>
            <a:ext cx="543240" cy="432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3"/>
          <a:stretch/>
        </p:blipFill>
        <p:spPr>
          <a:xfrm>
            <a:off x="714240" y="5000760"/>
            <a:ext cx="5432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1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43880" cy="5638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542880" cy="430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3"/>
          <a:stretch/>
        </p:blipFill>
        <p:spPr>
          <a:xfrm>
            <a:off x="642960" y="5500800"/>
            <a:ext cx="5428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410680" cy="5715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714240" y="1857240"/>
            <a:ext cx="543240" cy="430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2000160" y="611352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3357720" y="6124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5"/>
          <a:stretch/>
        </p:blipFill>
        <p:spPr>
          <a:xfrm>
            <a:off x="4664160" y="613584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57120" y="928800"/>
            <a:ext cx="8429760" cy="57243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3000240" y="1992240"/>
            <a:ext cx="1428840" cy="368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5072040" y="2000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4"/>
          <a:stretch/>
        </p:blipFill>
        <p:spPr>
          <a:xfrm>
            <a:off x="6429240" y="200016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5"/>
          <a:stretch/>
        </p:blipFill>
        <p:spPr>
          <a:xfrm>
            <a:off x="1643040" y="3560760"/>
            <a:ext cx="1000080" cy="368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6"/>
          <a:stretch/>
        </p:blipFill>
        <p:spPr>
          <a:xfrm>
            <a:off x="2857680" y="355284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7"/>
          <a:stretch/>
        </p:blipFill>
        <p:spPr>
          <a:xfrm>
            <a:off x="4643280" y="3571920"/>
            <a:ext cx="1285920" cy="368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8"/>
          <a:stretch/>
        </p:blipFill>
        <p:spPr>
          <a:xfrm>
            <a:off x="4643280" y="5143680"/>
            <a:ext cx="857520" cy="368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9"/>
          <a:stretch/>
        </p:blipFill>
        <p:spPr>
          <a:xfrm>
            <a:off x="5715000" y="51436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10"/>
          <a:stretch/>
        </p:blipFill>
        <p:spPr>
          <a:xfrm>
            <a:off x="7194600" y="5141880"/>
            <a:ext cx="1143000" cy="3700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11"/>
          <a:stretch/>
        </p:blipFill>
        <p:spPr>
          <a:xfrm>
            <a:off x="2286000" y="618480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12"/>
          <a:stretch/>
        </p:blipFill>
        <p:spPr>
          <a:xfrm>
            <a:off x="6643800" y="6184800"/>
            <a:ext cx="142848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1" descr=""/>
          <p:cNvPicPr/>
          <p:nvPr/>
        </p:nvPicPr>
        <p:blipFill>
          <a:blip r:embed="rId1"/>
          <a:stretch/>
        </p:blipFill>
        <p:spPr>
          <a:xfrm>
            <a:off x="357120" y="785880"/>
            <a:ext cx="8515440" cy="59338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2"/>
          <a:stretch/>
        </p:blipFill>
        <p:spPr>
          <a:xfrm>
            <a:off x="1357200" y="414324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309600" y="895320"/>
            <a:ext cx="8524800" cy="56768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428760" y="785880"/>
            <a:ext cx="8467560" cy="57531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3"/>
          <a:stretch/>
        </p:blipFill>
        <p:spPr>
          <a:xfrm>
            <a:off x="5429160" y="1898640"/>
            <a:ext cx="2143080" cy="369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4"/>
          <a:stretch/>
        </p:blipFill>
        <p:spPr>
          <a:xfrm>
            <a:off x="2214720" y="2417760"/>
            <a:ext cx="1143000" cy="3697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5"/>
          <a:stretch/>
        </p:blipFill>
        <p:spPr>
          <a:xfrm>
            <a:off x="6032520" y="294012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6"/>
          <a:stretch/>
        </p:blipFill>
        <p:spPr>
          <a:xfrm>
            <a:off x="1285920" y="6072120"/>
            <a:ext cx="114300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309600" y="895320"/>
            <a:ext cx="8524800" cy="5676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2"/>
          <a:stretch/>
        </p:blipFill>
        <p:spPr>
          <a:xfrm>
            <a:off x="1214280" y="1960560"/>
            <a:ext cx="1571760" cy="368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6143760" y="2460600"/>
            <a:ext cx="1000080" cy="368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7358040" y="40528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5"/>
          <a:stretch/>
        </p:blipFill>
        <p:spPr>
          <a:xfrm>
            <a:off x="3643200" y="4564080"/>
            <a:ext cx="1143000" cy="368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6"/>
          <a:stretch/>
        </p:blipFill>
        <p:spPr>
          <a:xfrm>
            <a:off x="6929280" y="5613480"/>
            <a:ext cx="1143000" cy="3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8T01:22:43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